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png" ContentType="image/pn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C87D-1C8B-4116-B17D-313AE848E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BEB2-3DB2-47DB-9ACF-D591B63A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EF85-344F-4A5F-A43F-880DE4DF8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9292-1148-41EA-8D89-39670C85A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F8F4-13A4-45C2-9AB3-B314AA448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CA7B2-1510-4025-9202-0D9D9AB7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6A542-1F69-458B-AD02-72C68111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0450F-CA50-4223-B4BB-734D3735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ABE1-BAB6-4C51-A995-0D135A5A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B990-5BF8-40BD-858D-0D9863B5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FF03-6104-49BB-87C6-22952E8F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CF0F-4088-4EC4-84FE-5F7CAB8B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25DE-4925-4264-9CCB-D6EF3E56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3DB7-C440-4F8B-9B81-3D125B01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A9FC-0A21-4CB8-BD4B-E30E56C2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C8378-260A-4226-A4ED-2290F2B97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972E-AF67-451B-930B-622D49E4F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6D09-52BC-4E81-8373-C81FE179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E283-650B-4AB0-AEA8-A7C12B07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82E5-3FE3-4715-9A43-7738BEC7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2E34-ED41-499F-996D-4E978435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9E3D-8A04-46A7-A912-AC0E3E56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3203-CA02-4566-ADAA-40765F08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FC4B-1B5A-4B5F-B998-DCB6E005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B9D9-C453-4067-82E6-83DFF1E7B1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E8BB-4821-4BC5-B5AF-9F114C04BB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pmolloy@mineola.k12.ny.us" TargetMode="External"/><Relationship Id="rId2" Type="http://schemas.openxmlformats.org/officeDocument/2006/relationships/hyperlink" Target="mailto:jmaichin@mineola.k12.ny.us" TargetMode="External"/><Relationship Id="rId3" Type="http://schemas.openxmlformats.org/officeDocument/2006/relationships/hyperlink" Target="mailto:wsmith@mineola.k12.ny.ys" TargetMode="External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cerebrum.wikispaces.com/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12.nysed.gov/specialed/RTI/guidance/cover.ht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12.nysed.gov/specialed/RTI/guidance/cover.htm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12.nysed.gov/specialed/RTI/guidance/cover.htm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cerebrum.wikispaces.com/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Response to Intervention (RtI)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&amp;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The IST Proces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666880" y="4114440"/>
            <a:ext cx="60962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ennifer Maichin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Patricia Mollo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pecial Education Teac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Princip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ST Chairperso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Meadow Drive Elementary Scho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ineola Middle School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pmolloy@mineola.k12.ny.us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jmaichin@mineola.k12.ny.us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ittney Smith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ssistant Princip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SE Chairperson, Subcommitte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ineola Middle Scho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wsmith@mineola.k12.ny.ys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791320" y="5133960"/>
            <a:ext cx="22860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ocus on a student struggling in reading… “I need help!”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 Role of the IST (problem solving tea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 the needs of the stud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look at the data (including influencing facto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 specific deficit area(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options and decide on specific research based inter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goals for progress and Increase self-awareness of the students (age appropriatel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a cycle of follow-up mee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 progress (student and tea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reating a High Performing I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re Tea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T Chairperson(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uidance Counselor or Social Wo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ech Therap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ool Psychologi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ynamic Member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 (when appropria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room Teacher / Special Education / Read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ding / Math Curriculum Associ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rse (when appropria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ministration (when appropria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veloping a Solid IST Proces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0" name="Diagram 5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162920" cy="48736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480" y="599436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See our protocols and forms 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www.cerebrum.wikispaces.c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Diagram 7" descr=""/>
          <p:cNvPicPr/>
          <p:nvPr/>
        </p:nvPicPr>
        <p:blipFill>
          <a:blip r:embed="rId1"/>
          <a:stretch/>
        </p:blipFill>
        <p:spPr>
          <a:xfrm>
            <a:off x="1600200" y="2362320"/>
            <a:ext cx="6108840" cy="417492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Benchmarking and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rogress Monitoring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ding CB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COM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C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Summer and Fall Training Workshops"/>
          <p:cNvPicPr/>
          <p:nvPr/>
        </p:nvPicPr>
        <p:blipFill>
          <a:blip r:embed="rId2"/>
          <a:srcRect l="25345" t="0" r="6196" b="60451"/>
          <a:stretch/>
        </p:blipFill>
        <p:spPr>
          <a:xfrm>
            <a:off x="6553080" y="6019920"/>
            <a:ext cx="2438640" cy="6537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429000" y="4114800"/>
            <a:ext cx="685800" cy="307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ae8"/>
                </a:solidFill>
                <a:latin typeface="Arial"/>
              </a:rPr>
              <a:t>Tier I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8160" y="57240"/>
            <a:ext cx="9258120" cy="6743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362320" y="2946240"/>
            <a:ext cx="4457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57480" y="4660920"/>
            <a:ext cx="674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29040" y="5003640"/>
            <a:ext cx="2628720" cy="8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ier 1 - Univers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Quality classroom instruction using research-based strategies with targeted student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29040" y="3289320"/>
            <a:ext cx="26287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ier 2 - Strateg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mall Group (10-12 students) AIS Classes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enchmarking three times / yea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733920" y="1003320"/>
            <a:ext cx="16761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ier 3 - Intens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mall group (4-6 students) AIS class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ogress Monitoring every 2-3 week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43040" y="5232240"/>
            <a:ext cx="2057400" cy="9144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t-Risk Stud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eacher analyzes data, refers student to IST and moves student to Tier 2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2217800">
            <a:off x="180720" y="397476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71560" y="3517920"/>
            <a:ext cx="1143000" cy="79992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ree data checks, regression/no progress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ST Proce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886360" y="5232240"/>
            <a:ext cx="2057400" cy="9144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n Target Stud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eacher analyzes data and keeps student in Tier 1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rot="12775200">
            <a:off x="1018800" y="237456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772240" y="3517920"/>
            <a:ext cx="1143000" cy="6858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ree data check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ST Process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66880" y="2057400"/>
            <a:ext cx="1828800" cy="6858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gression /no progress, revise (repeat if not successful) --- consider referral to CS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800600" y="2057400"/>
            <a:ext cx="1371600" cy="6858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ogre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tinue with progra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ST Proce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13111800">
            <a:off x="2085840" y="77436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19954800">
            <a:off x="7143840" y="260316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19942200">
            <a:off x="8172360" y="408924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85840" y="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ssential Components of Succes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7" name="Diagram 7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089920" cy="56512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3429000" y="2971800"/>
            <a:ext cx="22860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mplementation Step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ower the Instructional Support Team (I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 Interventions (Tiers I, II, I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eduling Im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lement and Monitor the Interventions (Fideli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itor the progress of stu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edule Assessme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minister CB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ore and Enter Data in AIMsWe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et with AIS Teachers to discuss results and provide them with Passwords to AIMsWe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lk about the “Philosophy” of A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iculum vs. Sk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 rot="1614600">
            <a:off x="7543440" y="609480"/>
            <a:ext cx="1244520" cy="12099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6172200" y="5105520"/>
            <a:ext cx="111600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ntinuously refine the program…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523880" y="1981080"/>
            <a:ext cx="6096240" cy="214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ork in Progres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6629400" y="4114800"/>
            <a:ext cx="21160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YS Structure &amp; Compon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er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# of leve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based core instructional program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e.g. reading, math and writ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al screening and progress monitoring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sion-making proces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problem solving vs. standard protocol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using a problem solving approach --- composition of the 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fessional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cedures to ensure fidelity of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rent involvement and notification procedure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632448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p12.nysed.gov/specialed/RTI/guidance/cover.htm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riteria and Decision Rules for Determining Levels of Interven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ut poi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determine individuals at risk based on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niversal Scree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riter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judging whether a student is progressing adequately in response to in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riter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decision rules for movement of students between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riter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determining when an intervention is no longer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632448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p12.nysed.gov/specialed/RTI/guidance/cover.htm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Interven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teria for determining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ur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requenc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interventions designed to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supplem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ier I or core in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teria for determining t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ype of interven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cluding: focus of instruction, size of instructional group, appropriate instructional setting, and appropriately trained sta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gress monitoring procedures and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0" y="632448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p12.nysed.gov/specialed/RTI/guidance/cover.htm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ree Tier Mode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648320" y="2114640"/>
            <a:ext cx="4038480" cy="3497040"/>
            <a:chOff x="4648320" y="2114640"/>
            <a:chExt cx="4038480" cy="3497040"/>
          </a:xfrm>
        </p:grpSpPr>
        <p:sp>
          <p:nvSpPr>
            <p:cNvPr id="225" name="_s4112"/>
            <p:cNvSpPr/>
            <p:nvPr/>
          </p:nvSpPr>
          <p:spPr>
            <a:xfrm flipV="1">
              <a:off x="5994360" y="2114640"/>
              <a:ext cx="1346400" cy="1164960"/>
            </a:xfrm>
            <a:custGeom>
              <a:avLst/>
              <a:gdLst>
                <a:gd name="textAreaLeft" fmla="*/ 483120 w 1346400"/>
                <a:gd name="textAreaRight" fmla="*/ 863280 w 1346400"/>
                <a:gd name="textAreaTop" fmla="*/ 417960 h 1164960"/>
                <a:gd name="textAreaBottom" fmla="*/ 747000 h 116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09999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ier II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_s4113"/>
            <p:cNvSpPr/>
            <p:nvPr/>
          </p:nvSpPr>
          <p:spPr>
            <a:xfrm flipV="1">
              <a:off x="5321520" y="3279600"/>
              <a:ext cx="2692080" cy="1167120"/>
            </a:xfrm>
            <a:custGeom>
              <a:avLst/>
              <a:gdLst>
                <a:gd name="textAreaLeft" fmla="*/ 591840 w 2692080"/>
                <a:gd name="textAreaRight" fmla="*/ 2100240 w 2692080"/>
                <a:gd name="textAreaTop" fmla="*/ 256680 h 1167120"/>
                <a:gd name="textAreaBottom" fmla="*/ 910440 h 116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9999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ier I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_s4114"/>
            <p:cNvSpPr/>
            <p:nvPr/>
          </p:nvSpPr>
          <p:spPr>
            <a:xfrm flipV="1">
              <a:off x="4648320" y="4446720"/>
              <a:ext cx="4038480" cy="1164960"/>
            </a:xfrm>
            <a:custGeom>
              <a:avLst/>
              <a:gdLst>
                <a:gd name="textAreaLeft" fmla="*/ 700920 w 4038480"/>
                <a:gd name="textAreaRight" fmla="*/ 3337560 w 4038480"/>
                <a:gd name="textAreaTop" fmla="*/ 201960 h 1164960"/>
                <a:gd name="textAreaBottom" fmla="*/ 963000 h 116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9999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Tier I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1295280" y="4572000"/>
            <a:ext cx="32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uality Classroom Instruction based on NYS Curriculum and Standar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3505320"/>
            <a:ext cx="426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pplemental Instruction in addition to the standard classroom instr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2362320"/>
            <a:ext cx="510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plicit, intensive instruction specifically designed to meet individual nee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33920" y="52578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95680" y="38862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952880" y="29718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60199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tI can also be used to address the social / emotional needs of our children (e.g. BIP; Group Counseling; Individual Counsel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4343400"/>
            <a:ext cx="8381880" cy="1600200"/>
          </a:xfrm>
          <a:prstGeom prst="ellipse">
            <a:avLst/>
          </a:pr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ier I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: At-a-Gla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57200" y="1600200"/>
          <a:ext cx="8229600" cy="4843440"/>
        </p:xfrm>
        <a:graphic>
          <a:graphicData uri="http://schemas.openxmlformats.org/drawingml/2006/table">
            <a:tbl>
              <a:tblPr/>
              <a:tblGrid>
                <a:gridCol w="1981080"/>
                <a:gridCol w="6248520"/>
              </a:tblGrid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oc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students in class (should meet the needs of at least 80% of all learner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gra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ientifically based curriculum reflecting state standar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Group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tiple and Flexible grouping formats to meet student needs (Differentiated Instructio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ily, uninterrupted 90 minute block of reading instruction focusing on phonemic awareness, phonics, vocabulary, fluency, and comprehensio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ssess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versal Screening / Benchmark Assessment (3x / year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terventioni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eral Education Classroom Teach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ett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eral Education Classro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ier I Strategy Development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Diagram 5" descr=""/>
          <p:cNvPicPr/>
          <p:nvPr/>
        </p:nvPicPr>
        <p:blipFill>
          <a:blip r:embed="rId1"/>
          <a:stretch/>
        </p:blipFill>
        <p:spPr>
          <a:xfrm>
            <a:off x="628560" y="1112760"/>
            <a:ext cx="8118720" cy="4907160"/>
          </a:xfrm>
          <a:prstGeom prst="rect">
            <a:avLst/>
          </a:prstGeom>
          <a:ln w="0">
            <a:noFill/>
          </a:ln>
        </p:spPr>
      </p:pic>
      <p:sp>
        <p:nvSpPr>
          <p:cNvPr id="240" name="TextBox 7"/>
          <p:cNvSpPr/>
          <p:nvPr/>
        </p:nvSpPr>
        <p:spPr>
          <a:xfrm>
            <a:off x="1143000" y="6002280"/>
            <a:ext cx="67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1d2e"/>
                </a:solidFill>
                <a:latin typeface="Arial"/>
              </a:rPr>
              <a:t>    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See compilation of research based interventions 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www.cerebrum.wikispaces.com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1d2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ier II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: At-a-Gla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981080"/>
                <a:gridCol w="624852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oc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-10% of students who have not responded to tier I effor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gra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plemental instruction provided in addition to and not in place of core instru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Group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all group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e Instruction + 20-30 minutes of supplemental interventions 3 – 5 days / week for a period of 9 – 30 wee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ssess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ess monitoring no less than every two wee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terventioni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eral Education or other qualified personnel determined by the schoo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ett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in or outside of the classro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ier III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: At-a-Gla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57200" y="1600200"/>
          <a:ext cx="8229600" cy="5065560"/>
        </p:xfrm>
        <a:graphic>
          <a:graphicData uri="http://schemas.openxmlformats.org/drawingml/2006/table">
            <a:tbl>
              <a:tblPr/>
              <a:tblGrid>
                <a:gridCol w="1981080"/>
                <a:gridCol w="6248520"/>
              </a:tblGrid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oc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5% of students who have not responded to tier II effor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gra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plemental instruction that differs from tier II in terms of time, duration, group size, frequency of progress monitoring, and foc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Group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vidualized instructio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e Instruction + 30-60 minutes of supplemental interventions at least 4 days / week for a period of 9 – 30 wee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ssess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ess monitoring at least 1x / wee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terventioni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ly skilled or trained interventionists in the area of academic need indicated by performance dat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ett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in or outside of the classro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5:22:28Z</dcterms:created>
  <dc:creator>User</dc:creator>
  <dc:description/>
  <dc:language>en-US</dc:language>
  <cp:lastModifiedBy>setup</cp:lastModifiedBy>
  <dcterms:modified xsi:type="dcterms:W3CDTF">2010-11-23T13:49:49Z</dcterms:modified>
  <cp:revision>21</cp:revision>
  <dc:subject/>
  <dc:title>Response to Intervention (RTI) &amp; The IST Process</dc:title>
</cp:coreProperties>
</file>